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24D4-5851-40EA-A52D-083E652D9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2F26-C3E0-4979-A279-9B396BA3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AB2D-697C-4DC9-9691-6C79EC198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ADD6-0F50-4F65-B686-6544C0F25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7444-9369-45F5-91A8-182B8B3E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927B-29C5-473D-BB14-8F452B25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B4EA-B2E0-4B88-A511-09E7A8E7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73B5-DEF0-47EA-A4EA-5197C1F8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4125-35E6-48D3-9B57-96F1B76C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60A9-6ABD-4825-A3E8-B1F1CE89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90C5-14EE-420D-8CB5-02E40411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8420-A3BB-409D-BF3C-7116BC32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5A919-DEDA-45C9-81C8-4F6A9405F588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73 Ty, Vládca všemohúc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y, Vládca všemocný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v nebi trón svoj má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nám, deťom pozemský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a s láskou priznáva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áč chrániť našu otčin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nej svojich detí rodin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eň po dni, každú hodin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y bol si, Kriste, sám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ak dieťa na zem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ó, pomôž byť aj ná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ždy deťmi vďačným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ásť chceme z Božej milost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podľa tvojej múdrosti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ás utvrď, Pane, v stál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íď, svätý Tešiteľ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lásky roznieť  pla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uč nás zrieť viery cieľ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zjavil Ježiš sám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ás k nemu veď a pravdou chráň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aj v našom dome mieru chr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len tvoja vôľa vždy sa staň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8T08:19:41Z</dcterms:modified>
  <cp:revision>74</cp:revision>
  <dc:subject/>
  <dc:title>Je veľký náš Pán, on slávy je Kráľ Nech do všetkých strán  spev vrúcnych znie chvál.</dc:title>
</cp:coreProperties>
</file>